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16D-17D0-440C-93B4-DEFA5E3A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0C8-DE34-448E-8BBC-B6A8211A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38F-8173-4834-B326-8B0D1EC3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6D1-F3D3-4D49-8AE1-ADC6850F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87F-E1FC-4A1B-85B4-FCBFCCA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908-6384-46CE-8B3C-5CC4DA2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AD0-6356-4797-ADF5-A43711D2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0A8-0888-4BD3-9436-50CB1D1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A91-5493-40D0-BAC4-AEDAA2A2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2F2-1729-4BC9-8AB9-CC7869F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07E-D71C-469E-9D24-CE802DC9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802-74E8-4764-8CC1-7913F2A2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Object 8"/>
          <p:cNvGraphicFramePr/>
          <p:nvPr/>
        </p:nvGraphicFramePr>
        <p:xfrm>
          <a:off x="0" y="5678640"/>
          <a:ext cx="914400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78640"/>
                    <a:ext cx="91440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B193-DB4C-4D6E-929E-3588B75BB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458200" cy="16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Futures Forum</a:t>
            </a:r>
            <a:br>
              <a:rPr sz="5400"/>
            </a:b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“Classroom”</a:t>
            </a:r>
            <a:endParaRPr b="1" lang="en-US" sz="5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Waterloo Region District School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June 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ow!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rd wid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sources, thinking and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Understa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mitations and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pportunities an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and consol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nking and 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ext!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and A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and 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for refining a Vision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Enabling Strategies towards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P, Mainstream/special populations – choice, voice, passion, person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Learning!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arity of goal (learning) and rationale (how the new literacies and Web 2.0 integration/ community building ar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and assimilation of new literacies, and Web 2.0 tools systemically, is complex and can only be contemplated if the rationale is sound and suppor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9250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(Communitech)/Student 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ior Administrative Advisor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uccess Plan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thinking in wri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grade 10 credit accumulation (boy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 knowledge/expertise integrating technology to engag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high yield, instructional strategies, tools,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Principle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 students utilizing technology mediated approach with interdisciplinary, inquiry-based (passion)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ze learning that utilizes student strengths, interests, readiness and learning styles (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professional learning through collaborative networking (learning cycles/PL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utures Forum Classroom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Februar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c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isciplinary, Integra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ea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ing Across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0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: Academic English, Careers, Civ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utures Forum Suppor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iculum Content and Cours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ment, Evaluation,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al Content Pedag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Use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e of To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MS, OERB, Moodle, Facebook, Ning, Twitter, Library Learning Commons, Blogs/Wik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Hand-Held Devices,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Future Forum Support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e-principal Instructional 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Support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echnology Service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ervices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Friends (Metrics/Monito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: WLU and U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Networked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(admin &amp; teacher), Central Staff L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Metric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124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, Teacher, Administrator,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: Student/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Accumulation, Grade 10 OCA, Report Car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(Percept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ement, Effectiveness of Interdisciplinary Approach, Effectiveness of Technology Integration for Learn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s, Identify Milestones, Teacher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, Teachers, Administrators, OSS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I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Supports, Curricular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Where We Were!</a:t>
            </a:r>
            <a:endParaRPr b="1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, tools, pedagogy, content, practice, supports, infrastructure, work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veil mythology and reveal possibilit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d to new literacies and Web 2.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/community bui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4:11:46Z</dcterms:created>
  <dc:creator>Kim</dc:creator>
  <dc:description/>
  <dc:language>en-US</dc:language>
  <cp:lastModifiedBy>Robin Ellis</cp:lastModifiedBy>
  <dcterms:modified xsi:type="dcterms:W3CDTF">2010-06-03T19:34:50Z</dcterms:modified>
  <cp:revision>50</cp:revision>
  <dc:subject/>
  <dc:title>Learning Futures Forum Classroom</dc:title>
</cp:coreProperties>
</file>